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2B0-AD72-445E-85E3-2F79FE8F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74B-8B82-4142-9866-DA7571E4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115-FD29-420B-BF5F-4105FEF4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ECC-FF26-46EA-A953-A5F5A34C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70F1-793C-43BF-A2FF-CC6AA161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75A3-3779-4531-A6B2-A99610B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5187-5F21-453F-A0AB-700D7F10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D060-BDE8-4658-8C92-71DBAEBA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FFE8-8B4D-4F9C-BD52-1B1C0EAD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A53E-91A1-4B65-A011-2E7B4481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D348-57DD-4FEC-BE08-B23AF1ED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DA9-EBAF-4708-8AAB-3D2CB2A3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DDEA-08CF-4A5B-99DA-33979D0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9E7B-931F-4390-973C-07486091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6104-E5B6-4F7C-8347-71C2ED4B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10B1-AB4B-4337-9660-BCB1841F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B00C-DC64-4B3D-9FE0-987716BB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9452-C076-4C33-B127-F29D51D6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58FC-8DBD-4C85-A764-3835FD58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8167-301F-46C7-8F1B-B249A240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728F-E6A6-44AF-A05B-0D2268A1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1CCA-358C-433B-AC82-4AB51590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B76-3494-4661-A718-3197A225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6B85-4DBE-4F12-AB95-9FF552B9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CC24-E302-44BB-90FC-9E419B00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55BF-A8DD-4DA0-9206-4D7748B9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AE55-56E8-4E29-8A4E-55AB215B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C41E-484C-42C4-9550-BD79477D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B591-15E4-469B-AC72-F8777FD6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02AC-390E-4B98-B2E8-83317FE6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A56C-49ED-4BE4-9CF6-6BB5811D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A4738-8DE6-4517-9CFC-11B04994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82A7-680E-4EC0-B8ED-3E913153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3C4-38D6-4E97-8C44-67B14A1E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F7078-C30A-4024-96B0-42806467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7433-54FC-48E3-B183-EF152481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005F-AEAA-4125-8CD5-9575E7AE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7D49-7D96-463A-BD92-01B0A49A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A42BB-4E6A-4670-929A-D272CE0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5780B-6315-4290-B3B8-5A84EAA7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DEC7A-C6AD-4FF4-9504-0556549F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9C32C-85B2-41E2-8EAE-16FEC384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2C68-2BEF-411D-AD05-F3F5F84D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1A44-B985-4B24-8DF9-5AA8F6E1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DD5-5ED4-4E48-93B1-CE45CB5F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2FB07-86EA-408C-91D1-798A41B0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31D96-9ACF-4D38-A97B-670E78B4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CD775-F136-4547-B59C-9341A255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85FE2-C5EE-4E98-8669-96EC1284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97FE4-CA34-4D0E-AAA5-6056D0AF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AD85B-D5C4-4B20-B699-10BDEA9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F95A-C25C-4C91-88A1-9C86151F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4B15-5830-4D80-85D7-5D68E89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7E16-0CC0-4256-95D9-9F8CE0E5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960AD-BD3A-428A-99CA-DF3C9290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558-9F29-4996-88E7-68113732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9D17F-491F-4D61-8902-1C68F24C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B79-414E-45DF-8F74-BE99B9D1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D00-0499-4A0D-AAC0-A9FFC21F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51B-126D-45F3-85E2-26320576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134CE-90B3-4C9E-BA0E-1B2D09F7DA80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BB7CB-D400-41A9-BD57-4A47BBBE3AF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CA14F-ECC0-4F91-B81C-421C4443D02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FF9E3-0D84-4B80-939C-1BEEC7A3331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19EA6-D6B2-49FC-A323-1823D847A92A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2872B-7BB2-48A7-B428-E877F9AC167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0F7DF-BA5C-4069-AE76-E8D0B64F174B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EE1C2-7933-4271-860D-124428D35D4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07895-F1CD-45B5-B472-2F957E72026A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53F3B-98A5-4453-AAF7-3D8408DAD9B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images.jpg"/>
          <p:cNvPicPr/>
          <p:nvPr/>
        </p:nvPicPr>
        <p:blipFill>
          <a:blip r:embed="rId3"/>
          <a:stretch/>
        </p:blipFill>
        <p:spPr>
          <a:xfrm>
            <a:off x="685800" y="1625760"/>
            <a:ext cx="226044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rongly against federal government expans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phasized the “common man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Still favored white, middle and upper class me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4" name="Picture 3" descr="images1.jpg"/>
          <p:cNvPicPr/>
          <p:nvPr/>
        </p:nvPicPr>
        <p:blipFill>
          <a:blip r:embed="rId2"/>
          <a:stretch/>
        </p:blipFill>
        <p:spPr>
          <a:xfrm>
            <a:off x="2057400" y="3429000"/>
            <a:ext cx="457200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ced relocation of Native Americans to reserv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il of Te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Cherokee in Georgia resiste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They were marched to a reservation in Oklahom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Close to 4,000 Cherokee people died as a result of the migra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Content Placeholder 3" descr="images2.jpg"/>
          <p:cNvPicPr/>
          <p:nvPr/>
        </p:nvPicPr>
        <p:blipFill>
          <a:blip r:embed="rId1"/>
          <a:srcRect l="0" t="-4574" r="0" b="-4574"/>
          <a:stretch/>
        </p:blipFill>
        <p:spPr>
          <a:xfrm>
            <a:off x="457200" y="762120"/>
            <a:ext cx="850428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w tariff on imported goods passed in 1828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uth Carolina threatens to leave the Un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ackson passes Force Bil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uthorizes the use of military to enforce acts of Congress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0" name="Content Placeholder 6" descr="images3.jpg"/>
          <p:cNvPicPr/>
          <p:nvPr/>
        </p:nvPicPr>
        <p:blipFill>
          <a:blip r:embed="rId2"/>
          <a:srcRect l="-22126" t="0" r="-22126" b="0"/>
          <a:stretch/>
        </p:blipFill>
        <p:spPr>
          <a:xfrm>
            <a:off x="4178160" y="1600200"/>
            <a:ext cx="352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ckson thinks bank is unconstitution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iminates it after re-election in 183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tributes to Panic of 183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Content Placeholder 4" descr="images4.jpg"/>
          <p:cNvPicPr/>
          <p:nvPr/>
        </p:nvPicPr>
        <p:blipFill>
          <a:blip r:embed="rId2"/>
          <a:srcRect l="0" t="-35788" r="0" b="-35788"/>
          <a:stretch/>
        </p:blipFill>
        <p:spPr>
          <a:xfrm>
            <a:off x="4178160" y="1600200"/>
            <a:ext cx="352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3:21:37Z</dcterms:created>
  <dc:creator>Moffa, David</dc:creator>
  <dc:description/>
  <dc:language>en-US</dc:language>
  <cp:lastModifiedBy>Moffa, David</cp:lastModifiedBy>
  <dcterms:modified xsi:type="dcterms:W3CDTF">2011-02-08T13:40:29Z</dcterms:modified>
  <cp:revision>7</cp:revision>
  <dc:subject/>
  <dc:title>Andrew Jackson</dc:title>
</cp:coreProperties>
</file>